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0105688" cy="11314113"/>
  <p:notesSz cx="20105688" cy="1131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20106000" cy="1131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7" name="PlaceHolder 1"/>
          <p:cNvSpPr>
            <a:spLocks noGrp="1"/>
          </p:cNvSpPr>
          <p:nvPr>
            <p:ph type="hdr"/>
          </p:nvPr>
        </p:nvSpPr>
        <p:spPr>
          <a:xfrm>
            <a:off x="-360" y="0"/>
            <a:ext cx="8712360" cy="5666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38" name="PlaceHolder 2"/>
          <p:cNvSpPr>
            <a:spLocks noGrp="1"/>
          </p:cNvSpPr>
          <p:nvPr>
            <p:ph type="dt" idx="1"/>
          </p:nvPr>
        </p:nvSpPr>
        <p:spPr>
          <a:xfrm>
            <a:off x="11387160" y="0"/>
            <a:ext cx="8712000" cy="566640"/>
          </a:xfrm>
          <a:prstGeom prst="rect">
            <a:avLst/>
          </a:prstGeom>
          <a:noFill/>
          <a:ln w="0">
            <a:noFill/>
          </a:ln>
        </p:spPr>
        <p:txBody>
          <a:bodyPr lIns="90000" rIns="90000" tIns="46800" bIns="46800" anchor="t">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659280" y="1414440"/>
            <a:ext cx="6784920" cy="3819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2009520" y="5445000"/>
            <a:ext cx="160844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10748520"/>
            <a:ext cx="8712360" cy="567000"/>
          </a:xfrm>
          <a:prstGeom prst="rect">
            <a:avLst/>
          </a:prstGeom>
          <a:noFill/>
          <a:ln w="0">
            <a:noFill/>
          </a:ln>
        </p:spPr>
        <p:txBody>
          <a:bodyPr lIns="90000" rIns="90000" tIns="46800" bIns="46800" anchor="b">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42" name="PlaceHolder 6"/>
          <p:cNvSpPr>
            <a:spLocks noGrp="1"/>
          </p:cNvSpPr>
          <p:nvPr>
            <p:ph type="sldNum" idx="3"/>
          </p:nvPr>
        </p:nvSpPr>
        <p:spPr>
          <a:xfrm>
            <a:off x="11387160" y="10748520"/>
            <a:ext cx="8712000" cy="567000"/>
          </a:xfrm>
          <a:prstGeom prst="rect">
            <a:avLst/>
          </a:prstGeom>
          <a:noFill/>
          <a:ln w="0">
            <a:noFill/>
          </a:ln>
        </p:spPr>
        <p:txBody>
          <a:bodyPr lIns="90000" rIns="90000" tIns="46800" bIns="46800" anchor="b">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0BECC4C1-4C38-45C2-A36D-7F29F46731F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6659640" y="1414440"/>
            <a:ext cx="6784920" cy="3819600"/>
          </a:xfrm>
          <a:prstGeom prst="rect">
            <a:avLst/>
          </a:prstGeom>
          <a:ln w="0">
            <a:noFill/>
          </a:ln>
        </p:spPr>
      </p:sp>
      <p:sp>
        <p:nvSpPr>
          <p:cNvPr id="65" name="PlaceHolder 2"/>
          <p:cNvSpPr>
            <a:spLocks noGrp="1"/>
          </p:cNvSpPr>
          <p:nvPr>
            <p:ph type="body"/>
          </p:nvPr>
        </p:nvSpPr>
        <p:spPr>
          <a:xfrm>
            <a:off x="2009520" y="5445000"/>
            <a:ext cx="1608444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66" name="Espace réservé du numéro de diapositive 3"/>
          <p:cNvSpPr/>
          <p:nvPr/>
        </p:nvSpPr>
        <p:spPr>
          <a:xfrm>
            <a:off x="11387160" y="10748880"/>
            <a:ext cx="8712000" cy="567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3E8F35E7-ADCD-4FA8-B0FB-EF4CEBA1B95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1005120" y="264744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100512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71229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132411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100512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71229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132411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1005120" y="2647440"/>
            <a:ext cx="18095040" cy="656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1005120" y="2647440"/>
            <a:ext cx="1809504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005120" y="451440"/>
            <a:ext cx="18095040" cy="875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jakub.dzik@globalsecuralliance.com" TargetMode="External"/><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age 2" descr=""/>
          <p:cNvPicPr/>
          <p:nvPr/>
        </p:nvPicPr>
        <p:blipFill>
          <a:blip r:embed="rId1"/>
          <a:stretch/>
        </p:blipFill>
        <p:spPr>
          <a:xfrm>
            <a:off x="3240" y="0"/>
            <a:ext cx="5695920" cy="5541840"/>
          </a:xfrm>
          <a:prstGeom prst="rect">
            <a:avLst/>
          </a:prstGeom>
          <a:ln w="0">
            <a:noFill/>
          </a:ln>
        </p:spPr>
      </p:pic>
      <p:sp>
        <p:nvSpPr>
          <p:cNvPr id="44" name="object 33"/>
          <p:cNvSpPr/>
          <p:nvPr/>
        </p:nvSpPr>
        <p:spPr>
          <a:xfrm>
            <a:off x="5583240" y="2128680"/>
            <a:ext cx="8209080" cy="9187200"/>
          </a:xfrm>
          <a:custGeom>
            <a:avLst/>
            <a:gdLst/>
            <a:ahLst/>
            <a:rect l="l" t="t" r="r" b="b"/>
            <a:pathLst>
              <a:path w="20104047" h="8659284">
                <a:moveTo>
                  <a:pt x="0" y="8659284"/>
                </a:moveTo>
                <a:lnTo>
                  <a:pt x="20104047" y="8659284"/>
                </a:lnTo>
                <a:lnTo>
                  <a:pt x="20104047" y="0"/>
                </a:lnTo>
                <a:lnTo>
                  <a:pt x="0" y="0"/>
                </a:lnTo>
                <a:lnTo>
                  <a:pt x="0" y="8659284"/>
                </a:lnTo>
                <a:close/>
              </a:path>
            </a:pathLst>
          </a:custGeom>
          <a:solidFill>
            <a:srgbClr val="f2f2f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5" name="object 34"/>
          <p:cNvSpPr/>
          <p:nvPr/>
        </p:nvSpPr>
        <p:spPr>
          <a:xfrm>
            <a:off x="5583240" y="0"/>
            <a:ext cx="14520960" cy="220032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6" name="object 35"/>
          <p:cNvSpPr/>
          <p:nvPr/>
        </p:nvSpPr>
        <p:spPr>
          <a:xfrm>
            <a:off x="18681840" y="712800"/>
            <a:ext cx="679320" cy="920880"/>
          </a:xfrm>
          <a:custGeom>
            <a:avLst/>
            <a:gdLst/>
            <a:ahLst/>
            <a:rect l="l" t="t" r="r" b="b"/>
            <a:pathLst>
              <a:path w="680490" h="921700">
                <a:moveTo>
                  <a:pt x="219067" y="444776"/>
                </a:moveTo>
                <a:lnTo>
                  <a:pt x="232169" y="446100"/>
                </a:lnTo>
                <a:lnTo>
                  <a:pt x="220739" y="444653"/>
                </a:lnTo>
                <a:lnTo>
                  <a:pt x="219067" y="444410"/>
                </a:lnTo>
                <a:lnTo>
                  <a:pt x="213553" y="443483"/>
                </a:lnTo>
                <a:lnTo>
                  <a:pt x="208002" y="442579"/>
                </a:lnTo>
                <a:lnTo>
                  <a:pt x="206385" y="442278"/>
                </a:lnTo>
                <a:lnTo>
                  <a:pt x="206385" y="442706"/>
                </a:lnTo>
                <a:lnTo>
                  <a:pt x="219067" y="444776"/>
                </a:lnTo>
                <a:close/>
              </a:path>
              <a:path w="680490" h="921700">
                <a:moveTo>
                  <a:pt x="194139" y="439703"/>
                </a:moveTo>
                <a:lnTo>
                  <a:pt x="183843" y="437101"/>
                </a:lnTo>
                <a:lnTo>
                  <a:pt x="194139" y="439969"/>
                </a:lnTo>
                <a:lnTo>
                  <a:pt x="206385" y="442706"/>
                </a:lnTo>
                <a:lnTo>
                  <a:pt x="194139" y="439703"/>
                </a:lnTo>
                <a:close/>
              </a:path>
              <a:path w="680490" h="921700">
                <a:moveTo>
                  <a:pt x="183303" y="313685"/>
                </a:moveTo>
                <a:lnTo>
                  <a:pt x="189619" y="326380"/>
                </a:lnTo>
                <a:lnTo>
                  <a:pt x="196892" y="336935"/>
                </a:lnTo>
                <a:lnTo>
                  <a:pt x="205014" y="345537"/>
                </a:lnTo>
                <a:lnTo>
                  <a:pt x="213878" y="352376"/>
                </a:lnTo>
                <a:lnTo>
                  <a:pt x="217544" y="354623"/>
                </a:lnTo>
                <a:lnTo>
                  <a:pt x="226542" y="352301"/>
                </a:lnTo>
                <a:lnTo>
                  <a:pt x="236442" y="349929"/>
                </a:lnTo>
                <a:lnTo>
                  <a:pt x="247185" y="347562"/>
                </a:lnTo>
                <a:lnTo>
                  <a:pt x="258713" y="345256"/>
                </a:lnTo>
                <a:lnTo>
                  <a:pt x="270967" y="343066"/>
                </a:lnTo>
                <a:lnTo>
                  <a:pt x="283887" y="341049"/>
                </a:lnTo>
                <a:lnTo>
                  <a:pt x="297416" y="339260"/>
                </a:lnTo>
                <a:lnTo>
                  <a:pt x="311493" y="337754"/>
                </a:lnTo>
                <a:lnTo>
                  <a:pt x="326060" y="336586"/>
                </a:lnTo>
                <a:lnTo>
                  <a:pt x="341059" y="335814"/>
                </a:lnTo>
                <a:lnTo>
                  <a:pt x="353555" y="335515"/>
                </a:lnTo>
                <a:lnTo>
                  <a:pt x="359908" y="326701"/>
                </a:lnTo>
                <a:lnTo>
                  <a:pt x="365609" y="316414"/>
                </a:lnTo>
                <a:lnTo>
                  <a:pt x="370581" y="304552"/>
                </a:lnTo>
                <a:lnTo>
                  <a:pt x="374749" y="291010"/>
                </a:lnTo>
                <a:lnTo>
                  <a:pt x="376937" y="281521"/>
                </a:lnTo>
                <a:lnTo>
                  <a:pt x="364609" y="280847"/>
                </a:lnTo>
                <a:lnTo>
                  <a:pt x="352030" y="280357"/>
                </a:lnTo>
                <a:lnTo>
                  <a:pt x="339137" y="280088"/>
                </a:lnTo>
                <a:lnTo>
                  <a:pt x="331607" y="280044"/>
                </a:lnTo>
                <a:lnTo>
                  <a:pt x="317387" y="280176"/>
                </a:lnTo>
                <a:lnTo>
                  <a:pt x="303448" y="280569"/>
                </a:lnTo>
                <a:lnTo>
                  <a:pt x="289791" y="281219"/>
                </a:lnTo>
                <a:lnTo>
                  <a:pt x="276420" y="282124"/>
                </a:lnTo>
                <a:lnTo>
                  <a:pt x="263336" y="283280"/>
                </a:lnTo>
                <a:lnTo>
                  <a:pt x="250542" y="284685"/>
                </a:lnTo>
                <a:lnTo>
                  <a:pt x="238041" y="286333"/>
                </a:lnTo>
                <a:lnTo>
                  <a:pt x="225833" y="288223"/>
                </a:lnTo>
                <a:lnTo>
                  <a:pt x="213923" y="290351"/>
                </a:lnTo>
                <a:lnTo>
                  <a:pt x="202311" y="292713"/>
                </a:lnTo>
                <a:lnTo>
                  <a:pt x="191001" y="295307"/>
                </a:lnTo>
                <a:lnTo>
                  <a:pt x="179995" y="298129"/>
                </a:lnTo>
                <a:lnTo>
                  <a:pt x="178050" y="298660"/>
                </a:lnTo>
                <a:lnTo>
                  <a:pt x="183303" y="313685"/>
                </a:lnTo>
                <a:close/>
              </a:path>
              <a:path w="680490" h="921700">
                <a:moveTo>
                  <a:pt x="452452" y="470459"/>
                </a:moveTo>
                <a:lnTo>
                  <a:pt x="453328" y="477538"/>
                </a:lnTo>
                <a:lnTo>
                  <a:pt x="456982" y="490682"/>
                </a:lnTo>
                <a:lnTo>
                  <a:pt x="462552" y="501723"/>
                </a:lnTo>
                <a:lnTo>
                  <a:pt x="470027" y="510597"/>
                </a:lnTo>
                <a:lnTo>
                  <a:pt x="479396" y="517235"/>
                </a:lnTo>
                <a:lnTo>
                  <a:pt x="490646" y="521571"/>
                </a:lnTo>
                <a:lnTo>
                  <a:pt x="503766" y="523540"/>
                </a:lnTo>
                <a:lnTo>
                  <a:pt x="518743" y="523073"/>
                </a:lnTo>
                <a:lnTo>
                  <a:pt x="528651" y="521590"/>
                </a:lnTo>
                <a:lnTo>
                  <a:pt x="542361" y="518449"/>
                </a:lnTo>
                <a:lnTo>
                  <a:pt x="554902" y="514444"/>
                </a:lnTo>
                <a:lnTo>
                  <a:pt x="566265" y="509621"/>
                </a:lnTo>
                <a:lnTo>
                  <a:pt x="576445" y="504024"/>
                </a:lnTo>
                <a:lnTo>
                  <a:pt x="588724" y="495266"/>
                </a:lnTo>
                <a:lnTo>
                  <a:pt x="598060" y="485728"/>
                </a:lnTo>
                <a:lnTo>
                  <a:pt x="605228" y="475136"/>
                </a:lnTo>
                <a:lnTo>
                  <a:pt x="610317" y="463652"/>
                </a:lnTo>
                <a:lnTo>
                  <a:pt x="613413" y="451437"/>
                </a:lnTo>
                <a:lnTo>
                  <a:pt x="614602" y="438650"/>
                </a:lnTo>
                <a:lnTo>
                  <a:pt x="614323" y="429128"/>
                </a:lnTo>
                <a:lnTo>
                  <a:pt x="612945" y="416022"/>
                </a:lnTo>
                <a:lnTo>
                  <a:pt x="609863" y="403628"/>
                </a:lnTo>
                <a:lnTo>
                  <a:pt x="605312" y="391956"/>
                </a:lnTo>
                <a:lnTo>
                  <a:pt x="603764" y="388733"/>
                </a:lnTo>
                <a:lnTo>
                  <a:pt x="602412" y="385611"/>
                </a:lnTo>
                <a:lnTo>
                  <a:pt x="594607" y="371453"/>
                </a:lnTo>
                <a:lnTo>
                  <a:pt x="586229" y="360164"/>
                </a:lnTo>
                <a:lnTo>
                  <a:pt x="576951" y="350091"/>
                </a:lnTo>
                <a:lnTo>
                  <a:pt x="567190" y="341224"/>
                </a:lnTo>
                <a:lnTo>
                  <a:pt x="557363" y="333551"/>
                </a:lnTo>
                <a:lnTo>
                  <a:pt x="547888" y="327062"/>
                </a:lnTo>
                <a:lnTo>
                  <a:pt x="540939" y="322776"/>
                </a:lnTo>
                <a:lnTo>
                  <a:pt x="535669" y="334527"/>
                </a:lnTo>
                <a:lnTo>
                  <a:pt x="529791" y="345850"/>
                </a:lnTo>
                <a:lnTo>
                  <a:pt x="523305" y="356737"/>
                </a:lnTo>
                <a:lnTo>
                  <a:pt x="516206" y="367178"/>
                </a:lnTo>
                <a:lnTo>
                  <a:pt x="515996" y="369007"/>
                </a:lnTo>
                <a:lnTo>
                  <a:pt x="526917" y="375944"/>
                </a:lnTo>
                <a:lnTo>
                  <a:pt x="536877" y="384686"/>
                </a:lnTo>
                <a:lnTo>
                  <a:pt x="544238" y="395249"/>
                </a:lnTo>
                <a:lnTo>
                  <a:pt x="546114" y="400078"/>
                </a:lnTo>
                <a:lnTo>
                  <a:pt x="547015" y="403818"/>
                </a:lnTo>
                <a:lnTo>
                  <a:pt x="547225" y="405997"/>
                </a:lnTo>
                <a:lnTo>
                  <a:pt x="547392" y="409612"/>
                </a:lnTo>
                <a:lnTo>
                  <a:pt x="546816" y="412409"/>
                </a:lnTo>
                <a:lnTo>
                  <a:pt x="545370" y="414829"/>
                </a:lnTo>
                <a:lnTo>
                  <a:pt x="543118" y="418652"/>
                </a:lnTo>
                <a:lnTo>
                  <a:pt x="539169" y="421072"/>
                </a:lnTo>
                <a:lnTo>
                  <a:pt x="533993" y="422350"/>
                </a:lnTo>
                <a:lnTo>
                  <a:pt x="531406" y="423042"/>
                </a:lnTo>
                <a:lnTo>
                  <a:pt x="529971" y="423335"/>
                </a:lnTo>
                <a:lnTo>
                  <a:pt x="517637" y="424293"/>
                </a:lnTo>
                <a:lnTo>
                  <a:pt x="505059" y="423938"/>
                </a:lnTo>
                <a:lnTo>
                  <a:pt x="492602" y="424310"/>
                </a:lnTo>
                <a:lnTo>
                  <a:pt x="489240" y="424812"/>
                </a:lnTo>
                <a:lnTo>
                  <a:pt x="476109" y="429098"/>
                </a:lnTo>
                <a:lnTo>
                  <a:pt x="465582" y="436211"/>
                </a:lnTo>
                <a:lnTo>
                  <a:pt x="457942" y="445746"/>
                </a:lnTo>
                <a:lnTo>
                  <a:pt x="453471" y="457298"/>
                </a:lnTo>
                <a:lnTo>
                  <a:pt x="452452" y="470459"/>
                </a:lnTo>
                <a:close/>
              </a:path>
              <a:path w="680490" h="921700">
                <a:moveTo>
                  <a:pt x="602407" y="639710"/>
                </a:moveTo>
                <a:lnTo>
                  <a:pt x="589480" y="617810"/>
                </a:lnTo>
                <a:lnTo>
                  <a:pt x="572713" y="598896"/>
                </a:lnTo>
                <a:lnTo>
                  <a:pt x="552243" y="583105"/>
                </a:lnTo>
                <a:lnTo>
                  <a:pt x="537285" y="575284"/>
                </a:lnTo>
                <a:lnTo>
                  <a:pt x="524597" y="569844"/>
                </a:lnTo>
                <a:lnTo>
                  <a:pt x="511424" y="565061"/>
                </a:lnTo>
                <a:lnTo>
                  <a:pt x="497949" y="560891"/>
                </a:lnTo>
                <a:lnTo>
                  <a:pt x="484358" y="557295"/>
                </a:lnTo>
                <a:lnTo>
                  <a:pt x="470835" y="554229"/>
                </a:lnTo>
                <a:lnTo>
                  <a:pt x="457563" y="551652"/>
                </a:lnTo>
                <a:lnTo>
                  <a:pt x="432512" y="547797"/>
                </a:lnTo>
                <a:lnTo>
                  <a:pt x="410679" y="545396"/>
                </a:lnTo>
                <a:lnTo>
                  <a:pt x="390710" y="544239"/>
                </a:lnTo>
                <a:lnTo>
                  <a:pt x="365670" y="543404"/>
                </a:lnTo>
                <a:lnTo>
                  <a:pt x="340385" y="542736"/>
                </a:lnTo>
                <a:lnTo>
                  <a:pt x="314815" y="542293"/>
                </a:lnTo>
                <a:lnTo>
                  <a:pt x="203812" y="542089"/>
                </a:lnTo>
                <a:lnTo>
                  <a:pt x="183806" y="541197"/>
                </a:lnTo>
                <a:lnTo>
                  <a:pt x="165605" y="539155"/>
                </a:lnTo>
                <a:lnTo>
                  <a:pt x="149232" y="535962"/>
                </a:lnTo>
                <a:lnTo>
                  <a:pt x="134707" y="531619"/>
                </a:lnTo>
                <a:lnTo>
                  <a:pt x="122051" y="526126"/>
                </a:lnTo>
                <a:lnTo>
                  <a:pt x="111285" y="519481"/>
                </a:lnTo>
                <a:lnTo>
                  <a:pt x="102429" y="511685"/>
                </a:lnTo>
                <a:lnTo>
                  <a:pt x="95505" y="502739"/>
                </a:lnTo>
                <a:lnTo>
                  <a:pt x="90534" y="492641"/>
                </a:lnTo>
                <a:lnTo>
                  <a:pt x="87535" y="481391"/>
                </a:lnTo>
                <a:lnTo>
                  <a:pt x="86531" y="468990"/>
                </a:lnTo>
                <a:lnTo>
                  <a:pt x="87481" y="457721"/>
                </a:lnTo>
                <a:lnTo>
                  <a:pt x="90675" y="445569"/>
                </a:lnTo>
                <a:lnTo>
                  <a:pt x="96024" y="433763"/>
                </a:lnTo>
                <a:lnTo>
                  <a:pt x="103429" y="422350"/>
                </a:lnTo>
                <a:lnTo>
                  <a:pt x="97709" y="418527"/>
                </a:lnTo>
                <a:lnTo>
                  <a:pt x="92000" y="414462"/>
                </a:lnTo>
                <a:lnTo>
                  <a:pt x="86416" y="410188"/>
                </a:lnTo>
                <a:lnTo>
                  <a:pt x="62290" y="389225"/>
                </a:lnTo>
                <a:lnTo>
                  <a:pt x="56539" y="383757"/>
                </a:lnTo>
                <a:lnTo>
                  <a:pt x="51154" y="378215"/>
                </a:lnTo>
                <a:lnTo>
                  <a:pt x="46104" y="372548"/>
                </a:lnTo>
                <a:lnTo>
                  <a:pt x="37418" y="382660"/>
                </a:lnTo>
                <a:lnTo>
                  <a:pt x="29659" y="393137"/>
                </a:lnTo>
                <a:lnTo>
                  <a:pt x="22780" y="404030"/>
                </a:lnTo>
                <a:lnTo>
                  <a:pt x="16789" y="415328"/>
                </a:lnTo>
                <a:lnTo>
                  <a:pt x="11696" y="427018"/>
                </a:lnTo>
                <a:lnTo>
                  <a:pt x="7509" y="439090"/>
                </a:lnTo>
                <a:lnTo>
                  <a:pt x="4237" y="451532"/>
                </a:lnTo>
                <a:lnTo>
                  <a:pt x="1889" y="464334"/>
                </a:lnTo>
                <a:lnTo>
                  <a:pt x="473" y="477483"/>
                </a:lnTo>
                <a:lnTo>
                  <a:pt x="0" y="490968"/>
                </a:lnTo>
                <a:lnTo>
                  <a:pt x="102" y="497516"/>
                </a:lnTo>
                <a:lnTo>
                  <a:pt x="1140" y="512439"/>
                </a:lnTo>
                <a:lnTo>
                  <a:pt x="3286" y="526688"/>
                </a:lnTo>
                <a:lnTo>
                  <a:pt x="6520" y="540246"/>
                </a:lnTo>
                <a:lnTo>
                  <a:pt x="10824" y="553093"/>
                </a:lnTo>
                <a:lnTo>
                  <a:pt x="16183" y="565209"/>
                </a:lnTo>
                <a:lnTo>
                  <a:pt x="22577" y="576577"/>
                </a:lnTo>
                <a:lnTo>
                  <a:pt x="29989" y="587177"/>
                </a:lnTo>
                <a:lnTo>
                  <a:pt x="38401" y="596991"/>
                </a:lnTo>
                <a:lnTo>
                  <a:pt x="47797" y="605999"/>
                </a:lnTo>
                <a:lnTo>
                  <a:pt x="58157" y="614182"/>
                </a:lnTo>
                <a:lnTo>
                  <a:pt x="69465" y="621523"/>
                </a:lnTo>
                <a:lnTo>
                  <a:pt x="81703" y="628000"/>
                </a:lnTo>
                <a:lnTo>
                  <a:pt x="94853" y="633596"/>
                </a:lnTo>
                <a:lnTo>
                  <a:pt x="108898" y="638293"/>
                </a:lnTo>
                <a:lnTo>
                  <a:pt x="107451" y="639210"/>
                </a:lnTo>
                <a:lnTo>
                  <a:pt x="92387" y="648966"/>
                </a:lnTo>
                <a:lnTo>
                  <a:pt x="78507" y="658407"/>
                </a:lnTo>
                <a:lnTo>
                  <a:pt x="65817" y="667627"/>
                </a:lnTo>
                <a:lnTo>
                  <a:pt x="54318" y="676719"/>
                </a:lnTo>
                <a:lnTo>
                  <a:pt x="44015" y="685776"/>
                </a:lnTo>
                <a:lnTo>
                  <a:pt x="34911" y="694891"/>
                </a:lnTo>
                <a:lnTo>
                  <a:pt x="27009" y="704157"/>
                </a:lnTo>
                <a:lnTo>
                  <a:pt x="20314" y="713668"/>
                </a:lnTo>
                <a:lnTo>
                  <a:pt x="14828" y="723516"/>
                </a:lnTo>
                <a:lnTo>
                  <a:pt x="10555" y="733794"/>
                </a:lnTo>
                <a:lnTo>
                  <a:pt x="7498" y="744596"/>
                </a:lnTo>
                <a:lnTo>
                  <a:pt x="5662" y="756015"/>
                </a:lnTo>
                <a:lnTo>
                  <a:pt x="5049" y="768143"/>
                </a:lnTo>
                <a:lnTo>
                  <a:pt x="5788" y="781627"/>
                </a:lnTo>
                <a:lnTo>
                  <a:pt x="7996" y="794648"/>
                </a:lnTo>
                <a:lnTo>
                  <a:pt x="11661" y="807182"/>
                </a:lnTo>
                <a:lnTo>
                  <a:pt x="16772" y="819204"/>
                </a:lnTo>
                <a:lnTo>
                  <a:pt x="23317" y="830688"/>
                </a:lnTo>
                <a:lnTo>
                  <a:pt x="31283" y="841611"/>
                </a:lnTo>
                <a:lnTo>
                  <a:pt x="40660" y="851947"/>
                </a:lnTo>
                <a:lnTo>
                  <a:pt x="51435" y="861672"/>
                </a:lnTo>
                <a:lnTo>
                  <a:pt x="63596" y="870761"/>
                </a:lnTo>
                <a:lnTo>
                  <a:pt x="77132" y="879190"/>
                </a:lnTo>
                <a:lnTo>
                  <a:pt x="92030" y="886933"/>
                </a:lnTo>
                <a:lnTo>
                  <a:pt x="108279" y="893966"/>
                </a:lnTo>
                <a:lnTo>
                  <a:pt x="106471" y="768130"/>
                </a:lnTo>
                <a:lnTo>
                  <a:pt x="104466" y="757412"/>
                </a:lnTo>
                <a:lnTo>
                  <a:pt x="103796" y="746154"/>
                </a:lnTo>
                <a:lnTo>
                  <a:pt x="103918" y="741853"/>
                </a:lnTo>
                <a:lnTo>
                  <a:pt x="105311" y="731037"/>
                </a:lnTo>
                <a:lnTo>
                  <a:pt x="108261" y="720273"/>
                </a:lnTo>
                <a:lnTo>
                  <a:pt x="112768" y="709526"/>
                </a:lnTo>
                <a:lnTo>
                  <a:pt x="118831" y="698757"/>
                </a:lnTo>
                <a:lnTo>
                  <a:pt x="126452" y="687929"/>
                </a:lnTo>
                <a:lnTo>
                  <a:pt x="135630" y="677007"/>
                </a:lnTo>
                <a:lnTo>
                  <a:pt x="146366" y="665953"/>
                </a:lnTo>
                <a:lnTo>
                  <a:pt x="158659" y="654729"/>
                </a:lnTo>
                <a:lnTo>
                  <a:pt x="162964" y="654919"/>
                </a:lnTo>
                <a:lnTo>
                  <a:pt x="175335" y="655461"/>
                </a:lnTo>
                <a:lnTo>
                  <a:pt x="187750" y="655995"/>
                </a:lnTo>
                <a:lnTo>
                  <a:pt x="200212" y="656514"/>
                </a:lnTo>
                <a:lnTo>
                  <a:pt x="212724" y="657014"/>
                </a:lnTo>
                <a:lnTo>
                  <a:pt x="225289" y="657486"/>
                </a:lnTo>
                <a:lnTo>
                  <a:pt x="237911" y="657927"/>
                </a:lnTo>
                <a:lnTo>
                  <a:pt x="250592" y="658328"/>
                </a:lnTo>
                <a:lnTo>
                  <a:pt x="263337" y="658685"/>
                </a:lnTo>
                <a:lnTo>
                  <a:pt x="276148" y="658991"/>
                </a:lnTo>
                <a:lnTo>
                  <a:pt x="289028" y="659239"/>
                </a:lnTo>
                <a:lnTo>
                  <a:pt x="301981" y="659424"/>
                </a:lnTo>
                <a:lnTo>
                  <a:pt x="315010" y="659540"/>
                </a:lnTo>
                <a:lnTo>
                  <a:pt x="413238" y="659624"/>
                </a:lnTo>
                <a:lnTo>
                  <a:pt x="433251" y="660518"/>
                </a:lnTo>
                <a:lnTo>
                  <a:pt x="451454" y="662563"/>
                </a:lnTo>
                <a:lnTo>
                  <a:pt x="467827" y="665759"/>
                </a:lnTo>
                <a:lnTo>
                  <a:pt x="482349" y="670106"/>
                </a:lnTo>
                <a:lnTo>
                  <a:pt x="495001" y="675603"/>
                </a:lnTo>
                <a:lnTo>
                  <a:pt x="514611" y="690052"/>
                </a:lnTo>
                <a:lnTo>
                  <a:pt x="526497" y="709102"/>
                </a:lnTo>
                <a:lnTo>
                  <a:pt x="530494" y="732755"/>
                </a:lnTo>
                <a:lnTo>
                  <a:pt x="529874" y="743684"/>
                </a:lnTo>
                <a:lnTo>
                  <a:pt x="524941" y="764181"/>
                </a:lnTo>
                <a:lnTo>
                  <a:pt x="515145" y="782781"/>
                </a:lnTo>
                <a:lnTo>
                  <a:pt x="500559" y="799390"/>
                </a:lnTo>
                <a:lnTo>
                  <a:pt x="481255" y="813912"/>
                </a:lnTo>
                <a:lnTo>
                  <a:pt x="457306" y="826251"/>
                </a:lnTo>
                <a:lnTo>
                  <a:pt x="443613" y="831573"/>
                </a:lnTo>
                <a:lnTo>
                  <a:pt x="428787" y="836313"/>
                </a:lnTo>
                <a:lnTo>
                  <a:pt x="412835" y="840460"/>
                </a:lnTo>
                <a:lnTo>
                  <a:pt x="395768" y="844001"/>
                </a:lnTo>
                <a:lnTo>
                  <a:pt x="377595" y="846926"/>
                </a:lnTo>
                <a:lnTo>
                  <a:pt x="358324" y="849221"/>
                </a:lnTo>
                <a:lnTo>
                  <a:pt x="337965" y="850875"/>
                </a:lnTo>
                <a:lnTo>
                  <a:pt x="316527" y="851876"/>
                </a:lnTo>
                <a:lnTo>
                  <a:pt x="294019" y="852213"/>
                </a:lnTo>
                <a:lnTo>
                  <a:pt x="290790" y="852204"/>
                </a:lnTo>
                <a:lnTo>
                  <a:pt x="269807" y="851676"/>
                </a:lnTo>
                <a:lnTo>
                  <a:pt x="250028" y="850348"/>
                </a:lnTo>
                <a:lnTo>
                  <a:pt x="231463" y="848238"/>
                </a:lnTo>
                <a:lnTo>
                  <a:pt x="214120" y="845361"/>
                </a:lnTo>
                <a:lnTo>
                  <a:pt x="198007" y="841737"/>
                </a:lnTo>
                <a:lnTo>
                  <a:pt x="183134" y="837381"/>
                </a:lnTo>
                <a:lnTo>
                  <a:pt x="169509" y="832312"/>
                </a:lnTo>
                <a:lnTo>
                  <a:pt x="146037" y="820101"/>
                </a:lnTo>
                <a:lnTo>
                  <a:pt x="127660" y="805241"/>
                </a:lnTo>
                <a:lnTo>
                  <a:pt x="120404" y="796862"/>
                </a:lnTo>
                <a:lnTo>
                  <a:pt x="125866" y="900264"/>
                </a:lnTo>
                <a:lnTo>
                  <a:pt x="144781" y="905803"/>
                </a:lnTo>
                <a:lnTo>
                  <a:pt x="165011" y="910557"/>
                </a:lnTo>
                <a:lnTo>
                  <a:pt x="186544" y="914503"/>
                </a:lnTo>
                <a:lnTo>
                  <a:pt x="209368" y="917615"/>
                </a:lnTo>
                <a:lnTo>
                  <a:pt x="233472" y="919868"/>
                </a:lnTo>
                <a:lnTo>
                  <a:pt x="258844" y="921238"/>
                </a:lnTo>
                <a:lnTo>
                  <a:pt x="285471" y="921700"/>
                </a:lnTo>
                <a:lnTo>
                  <a:pt x="316429" y="921066"/>
                </a:lnTo>
                <a:lnTo>
                  <a:pt x="346010" y="919186"/>
                </a:lnTo>
                <a:lnTo>
                  <a:pt x="374193" y="916094"/>
                </a:lnTo>
                <a:lnTo>
                  <a:pt x="400953" y="911824"/>
                </a:lnTo>
                <a:lnTo>
                  <a:pt x="426268" y="906409"/>
                </a:lnTo>
                <a:lnTo>
                  <a:pt x="450116" y="899884"/>
                </a:lnTo>
                <a:lnTo>
                  <a:pt x="472473" y="892281"/>
                </a:lnTo>
                <a:lnTo>
                  <a:pt x="493316" y="883636"/>
                </a:lnTo>
                <a:lnTo>
                  <a:pt x="512623" y="873981"/>
                </a:lnTo>
                <a:lnTo>
                  <a:pt x="530371" y="863350"/>
                </a:lnTo>
                <a:lnTo>
                  <a:pt x="546537" y="851778"/>
                </a:lnTo>
                <a:lnTo>
                  <a:pt x="561099" y="839297"/>
                </a:lnTo>
                <a:lnTo>
                  <a:pt x="574033" y="825943"/>
                </a:lnTo>
                <a:lnTo>
                  <a:pt x="585316" y="811748"/>
                </a:lnTo>
                <a:lnTo>
                  <a:pt x="594926" y="796746"/>
                </a:lnTo>
                <a:lnTo>
                  <a:pt x="602840" y="780971"/>
                </a:lnTo>
                <a:lnTo>
                  <a:pt x="609035" y="764457"/>
                </a:lnTo>
                <a:lnTo>
                  <a:pt x="613489" y="747238"/>
                </a:lnTo>
                <a:lnTo>
                  <a:pt x="616177" y="729347"/>
                </a:lnTo>
                <a:lnTo>
                  <a:pt x="617079" y="710818"/>
                </a:lnTo>
                <a:lnTo>
                  <a:pt x="617037" y="706621"/>
                </a:lnTo>
                <a:lnTo>
                  <a:pt x="616200" y="691917"/>
                </a:lnTo>
                <a:lnTo>
                  <a:pt x="614302" y="677857"/>
                </a:lnTo>
                <a:lnTo>
                  <a:pt x="611359" y="664458"/>
                </a:lnTo>
                <a:lnTo>
                  <a:pt x="607388" y="651736"/>
                </a:lnTo>
                <a:lnTo>
                  <a:pt x="602407" y="639710"/>
                </a:lnTo>
                <a:close/>
              </a:path>
              <a:path w="680490" h="921700">
                <a:moveTo>
                  <a:pt x="106471" y="768130"/>
                </a:moveTo>
                <a:lnTo>
                  <a:pt x="108279" y="893966"/>
                </a:lnTo>
                <a:lnTo>
                  <a:pt x="125866" y="900264"/>
                </a:lnTo>
                <a:lnTo>
                  <a:pt x="120404" y="796862"/>
                </a:lnTo>
                <a:lnTo>
                  <a:pt x="114448" y="787872"/>
                </a:lnTo>
                <a:lnTo>
                  <a:pt x="109801" y="778289"/>
                </a:lnTo>
                <a:lnTo>
                  <a:pt x="106471" y="768130"/>
                </a:lnTo>
                <a:close/>
              </a:path>
              <a:path w="680490" h="921700">
                <a:moveTo>
                  <a:pt x="186313" y="357866"/>
                </a:moveTo>
                <a:lnTo>
                  <a:pt x="194934" y="439870"/>
                </a:lnTo>
                <a:lnTo>
                  <a:pt x="201062" y="441159"/>
                </a:lnTo>
                <a:lnTo>
                  <a:pt x="207208" y="442416"/>
                </a:lnTo>
                <a:lnTo>
                  <a:pt x="213553" y="443483"/>
                </a:lnTo>
                <a:lnTo>
                  <a:pt x="219067" y="444410"/>
                </a:lnTo>
                <a:lnTo>
                  <a:pt x="220739" y="444653"/>
                </a:lnTo>
                <a:lnTo>
                  <a:pt x="219916" y="444519"/>
                </a:lnTo>
                <a:lnTo>
                  <a:pt x="232169" y="446100"/>
                </a:lnTo>
                <a:lnTo>
                  <a:pt x="234348" y="446225"/>
                </a:lnTo>
                <a:lnTo>
                  <a:pt x="236527" y="446424"/>
                </a:lnTo>
                <a:lnTo>
                  <a:pt x="238706" y="446508"/>
                </a:lnTo>
                <a:lnTo>
                  <a:pt x="242556" y="386180"/>
                </a:lnTo>
                <a:lnTo>
                  <a:pt x="229246" y="382977"/>
                </a:lnTo>
                <a:lnTo>
                  <a:pt x="216975" y="378549"/>
                </a:lnTo>
                <a:lnTo>
                  <a:pt x="205735" y="372892"/>
                </a:lnTo>
                <a:lnTo>
                  <a:pt x="195517" y="365999"/>
                </a:lnTo>
                <a:lnTo>
                  <a:pt x="186313" y="357866"/>
                </a:lnTo>
                <a:close/>
              </a:path>
              <a:path w="680490" h="921700">
                <a:moveTo>
                  <a:pt x="680490" y="98746"/>
                </a:moveTo>
                <a:lnTo>
                  <a:pt x="679666" y="81333"/>
                </a:lnTo>
                <a:lnTo>
                  <a:pt x="677126" y="64980"/>
                </a:lnTo>
                <a:lnTo>
                  <a:pt x="672922" y="50298"/>
                </a:lnTo>
                <a:lnTo>
                  <a:pt x="667106" y="37357"/>
                </a:lnTo>
                <a:lnTo>
                  <a:pt x="659728" y="26222"/>
                </a:lnTo>
                <a:lnTo>
                  <a:pt x="650840" y="16961"/>
                </a:lnTo>
                <a:lnTo>
                  <a:pt x="640493" y="9641"/>
                </a:lnTo>
                <a:lnTo>
                  <a:pt x="628740" y="4329"/>
                </a:lnTo>
                <a:lnTo>
                  <a:pt x="615631" y="1093"/>
                </a:lnTo>
                <a:lnTo>
                  <a:pt x="601218" y="0"/>
                </a:lnTo>
                <a:lnTo>
                  <a:pt x="597119" y="82"/>
                </a:lnTo>
                <a:lnTo>
                  <a:pt x="585768" y="1221"/>
                </a:lnTo>
                <a:lnTo>
                  <a:pt x="574965" y="3664"/>
                </a:lnTo>
                <a:lnTo>
                  <a:pt x="564569" y="7366"/>
                </a:lnTo>
                <a:lnTo>
                  <a:pt x="554440" y="12281"/>
                </a:lnTo>
                <a:lnTo>
                  <a:pt x="544439" y="18364"/>
                </a:lnTo>
                <a:lnTo>
                  <a:pt x="534427" y="25569"/>
                </a:lnTo>
                <a:lnTo>
                  <a:pt x="524263" y="33851"/>
                </a:lnTo>
                <a:lnTo>
                  <a:pt x="513807" y="43165"/>
                </a:lnTo>
                <a:lnTo>
                  <a:pt x="502921" y="53465"/>
                </a:lnTo>
                <a:lnTo>
                  <a:pt x="491465" y="64705"/>
                </a:lnTo>
                <a:lnTo>
                  <a:pt x="479298" y="76841"/>
                </a:lnTo>
                <a:lnTo>
                  <a:pt x="475864" y="73536"/>
                </a:lnTo>
                <a:lnTo>
                  <a:pt x="456706" y="56991"/>
                </a:lnTo>
                <a:lnTo>
                  <a:pt x="436528" y="42713"/>
                </a:lnTo>
                <a:lnTo>
                  <a:pt x="415207" y="30646"/>
                </a:lnTo>
                <a:lnTo>
                  <a:pt x="392622" y="20731"/>
                </a:lnTo>
                <a:lnTo>
                  <a:pt x="368650" y="12913"/>
                </a:lnTo>
                <a:lnTo>
                  <a:pt x="343170" y="7134"/>
                </a:lnTo>
                <a:lnTo>
                  <a:pt x="316061" y="3338"/>
                </a:lnTo>
                <a:lnTo>
                  <a:pt x="287198" y="1467"/>
                </a:lnTo>
                <a:lnTo>
                  <a:pt x="272072" y="1236"/>
                </a:lnTo>
                <a:lnTo>
                  <a:pt x="249070" y="1933"/>
                </a:lnTo>
                <a:lnTo>
                  <a:pt x="226909" y="3995"/>
                </a:lnTo>
                <a:lnTo>
                  <a:pt x="205627" y="7380"/>
                </a:lnTo>
                <a:lnTo>
                  <a:pt x="185259" y="12044"/>
                </a:lnTo>
                <a:lnTo>
                  <a:pt x="165843" y="17945"/>
                </a:lnTo>
                <a:lnTo>
                  <a:pt x="147414" y="25039"/>
                </a:lnTo>
                <a:lnTo>
                  <a:pt x="130010" y="33283"/>
                </a:lnTo>
                <a:lnTo>
                  <a:pt x="113666" y="42635"/>
                </a:lnTo>
                <a:lnTo>
                  <a:pt x="98420" y="53050"/>
                </a:lnTo>
                <a:lnTo>
                  <a:pt x="84308" y="64487"/>
                </a:lnTo>
                <a:lnTo>
                  <a:pt x="71366" y="76902"/>
                </a:lnTo>
                <a:lnTo>
                  <a:pt x="59632" y="90253"/>
                </a:lnTo>
                <a:lnTo>
                  <a:pt x="49141" y="104495"/>
                </a:lnTo>
                <a:lnTo>
                  <a:pt x="39930" y="119587"/>
                </a:lnTo>
                <a:lnTo>
                  <a:pt x="32036" y="135484"/>
                </a:lnTo>
                <a:lnTo>
                  <a:pt x="25496" y="152145"/>
                </a:lnTo>
                <a:lnTo>
                  <a:pt x="20345" y="169526"/>
                </a:lnTo>
                <a:lnTo>
                  <a:pt x="16621" y="187584"/>
                </a:lnTo>
                <a:lnTo>
                  <a:pt x="14359" y="206276"/>
                </a:lnTo>
                <a:lnTo>
                  <a:pt x="13597" y="225559"/>
                </a:lnTo>
                <a:lnTo>
                  <a:pt x="13851" y="236850"/>
                </a:lnTo>
                <a:lnTo>
                  <a:pt x="16650" y="263369"/>
                </a:lnTo>
                <a:lnTo>
                  <a:pt x="22567" y="288226"/>
                </a:lnTo>
                <a:lnTo>
                  <a:pt x="31637" y="311563"/>
                </a:lnTo>
                <a:lnTo>
                  <a:pt x="43894" y="333525"/>
                </a:lnTo>
                <a:lnTo>
                  <a:pt x="59374" y="354256"/>
                </a:lnTo>
                <a:lnTo>
                  <a:pt x="78111" y="373899"/>
                </a:lnTo>
                <a:lnTo>
                  <a:pt x="100140" y="392599"/>
                </a:lnTo>
                <a:lnTo>
                  <a:pt x="99846" y="392766"/>
                </a:lnTo>
                <a:lnTo>
                  <a:pt x="103810" y="395776"/>
                </a:lnTo>
                <a:lnTo>
                  <a:pt x="112761" y="402194"/>
                </a:lnTo>
                <a:lnTo>
                  <a:pt x="122592" y="408675"/>
                </a:lnTo>
                <a:lnTo>
                  <a:pt x="133272" y="415078"/>
                </a:lnTo>
                <a:lnTo>
                  <a:pt x="144769" y="421262"/>
                </a:lnTo>
                <a:lnTo>
                  <a:pt x="157051" y="427088"/>
                </a:lnTo>
                <a:lnTo>
                  <a:pt x="170086" y="432414"/>
                </a:lnTo>
                <a:lnTo>
                  <a:pt x="183843" y="437101"/>
                </a:lnTo>
                <a:lnTo>
                  <a:pt x="194139" y="439703"/>
                </a:lnTo>
                <a:lnTo>
                  <a:pt x="206385" y="442706"/>
                </a:lnTo>
                <a:lnTo>
                  <a:pt x="206385" y="442278"/>
                </a:lnTo>
                <a:lnTo>
                  <a:pt x="208002" y="442579"/>
                </a:lnTo>
                <a:lnTo>
                  <a:pt x="201062" y="441159"/>
                </a:lnTo>
                <a:lnTo>
                  <a:pt x="195699" y="440061"/>
                </a:lnTo>
                <a:lnTo>
                  <a:pt x="186313" y="357866"/>
                </a:lnTo>
                <a:lnTo>
                  <a:pt x="178114" y="348487"/>
                </a:lnTo>
                <a:lnTo>
                  <a:pt x="170911" y="337857"/>
                </a:lnTo>
                <a:lnTo>
                  <a:pt x="164697" y="325970"/>
                </a:lnTo>
                <a:lnTo>
                  <a:pt x="159462" y="312823"/>
                </a:lnTo>
                <a:lnTo>
                  <a:pt x="155197" y="298408"/>
                </a:lnTo>
                <a:lnTo>
                  <a:pt x="151896" y="282722"/>
                </a:lnTo>
                <a:lnTo>
                  <a:pt x="149548" y="265758"/>
                </a:lnTo>
                <a:lnTo>
                  <a:pt x="148145" y="247512"/>
                </a:lnTo>
                <a:lnTo>
                  <a:pt x="147680" y="227979"/>
                </a:lnTo>
                <a:lnTo>
                  <a:pt x="147700" y="223867"/>
                </a:lnTo>
                <a:lnTo>
                  <a:pt x="148373" y="204865"/>
                </a:lnTo>
                <a:lnTo>
                  <a:pt x="149997" y="187063"/>
                </a:lnTo>
                <a:lnTo>
                  <a:pt x="152577" y="170465"/>
                </a:lnTo>
                <a:lnTo>
                  <a:pt x="156115" y="155073"/>
                </a:lnTo>
                <a:lnTo>
                  <a:pt x="160614" y="140892"/>
                </a:lnTo>
                <a:lnTo>
                  <a:pt x="166078" y="127925"/>
                </a:lnTo>
                <a:lnTo>
                  <a:pt x="172510" y="116176"/>
                </a:lnTo>
                <a:lnTo>
                  <a:pt x="179913" y="105648"/>
                </a:lnTo>
                <a:lnTo>
                  <a:pt x="188291" y="96346"/>
                </a:lnTo>
                <a:lnTo>
                  <a:pt x="197646" y="88272"/>
                </a:lnTo>
                <a:lnTo>
                  <a:pt x="207983" y="81430"/>
                </a:lnTo>
                <a:lnTo>
                  <a:pt x="219303" y="75824"/>
                </a:lnTo>
                <a:lnTo>
                  <a:pt x="231611" y="71457"/>
                </a:lnTo>
                <a:lnTo>
                  <a:pt x="244910" y="68334"/>
                </a:lnTo>
                <a:lnTo>
                  <a:pt x="259202" y="66457"/>
                </a:lnTo>
                <a:lnTo>
                  <a:pt x="274492" y="65831"/>
                </a:lnTo>
                <a:lnTo>
                  <a:pt x="279571" y="65897"/>
                </a:lnTo>
                <a:lnTo>
                  <a:pt x="294480" y="66918"/>
                </a:lnTo>
                <a:lnTo>
                  <a:pt x="308452" y="69169"/>
                </a:lnTo>
                <a:lnTo>
                  <a:pt x="321483" y="72649"/>
                </a:lnTo>
                <a:lnTo>
                  <a:pt x="333570" y="77352"/>
                </a:lnTo>
                <a:lnTo>
                  <a:pt x="344709" y="83276"/>
                </a:lnTo>
                <a:lnTo>
                  <a:pt x="354897" y="90417"/>
                </a:lnTo>
                <a:lnTo>
                  <a:pt x="364131" y="98771"/>
                </a:lnTo>
                <a:lnTo>
                  <a:pt x="372407" y="108335"/>
                </a:lnTo>
                <a:lnTo>
                  <a:pt x="379722" y="119106"/>
                </a:lnTo>
                <a:lnTo>
                  <a:pt x="386072" y="131079"/>
                </a:lnTo>
                <a:lnTo>
                  <a:pt x="391455" y="144251"/>
                </a:lnTo>
                <a:lnTo>
                  <a:pt x="395867" y="158619"/>
                </a:lnTo>
                <a:lnTo>
                  <a:pt x="399304" y="174180"/>
                </a:lnTo>
                <a:lnTo>
                  <a:pt x="401763" y="190929"/>
                </a:lnTo>
                <a:lnTo>
                  <a:pt x="403241" y="208863"/>
                </a:lnTo>
                <a:lnTo>
                  <a:pt x="403735" y="227979"/>
                </a:lnTo>
                <a:lnTo>
                  <a:pt x="403702" y="233031"/>
                </a:lnTo>
                <a:lnTo>
                  <a:pt x="402952" y="252103"/>
                </a:lnTo>
                <a:lnTo>
                  <a:pt x="401208" y="269907"/>
                </a:lnTo>
                <a:lnTo>
                  <a:pt x="398476" y="286449"/>
                </a:lnTo>
                <a:lnTo>
                  <a:pt x="394758" y="301734"/>
                </a:lnTo>
                <a:lnTo>
                  <a:pt x="390057" y="315766"/>
                </a:lnTo>
                <a:lnTo>
                  <a:pt x="384377" y="328552"/>
                </a:lnTo>
                <a:lnTo>
                  <a:pt x="377722" y="340095"/>
                </a:lnTo>
                <a:lnTo>
                  <a:pt x="370095" y="350402"/>
                </a:lnTo>
                <a:lnTo>
                  <a:pt x="361500" y="359477"/>
                </a:lnTo>
                <a:lnTo>
                  <a:pt x="351938" y="367325"/>
                </a:lnTo>
                <a:lnTo>
                  <a:pt x="341416" y="373952"/>
                </a:lnTo>
                <a:lnTo>
                  <a:pt x="329934" y="379362"/>
                </a:lnTo>
                <a:lnTo>
                  <a:pt x="317498" y="383561"/>
                </a:lnTo>
                <a:lnTo>
                  <a:pt x="304110" y="386554"/>
                </a:lnTo>
                <a:lnTo>
                  <a:pt x="289773" y="388346"/>
                </a:lnTo>
                <a:lnTo>
                  <a:pt x="274492" y="388942"/>
                </a:lnTo>
                <a:lnTo>
                  <a:pt x="272327" y="388931"/>
                </a:lnTo>
                <a:lnTo>
                  <a:pt x="256914" y="388163"/>
                </a:lnTo>
                <a:lnTo>
                  <a:pt x="242556" y="386180"/>
                </a:lnTo>
                <a:lnTo>
                  <a:pt x="238706" y="446508"/>
                </a:lnTo>
                <a:lnTo>
                  <a:pt x="236527" y="446424"/>
                </a:lnTo>
                <a:lnTo>
                  <a:pt x="234348" y="446225"/>
                </a:lnTo>
                <a:lnTo>
                  <a:pt x="232169" y="446100"/>
                </a:lnTo>
                <a:lnTo>
                  <a:pt x="234264" y="446351"/>
                </a:lnTo>
                <a:lnTo>
                  <a:pt x="236359" y="446508"/>
                </a:lnTo>
                <a:lnTo>
                  <a:pt x="238455" y="446718"/>
                </a:lnTo>
                <a:lnTo>
                  <a:pt x="241185" y="446973"/>
                </a:lnTo>
                <a:lnTo>
                  <a:pt x="253596" y="447909"/>
                </a:lnTo>
                <a:lnTo>
                  <a:pt x="266312" y="448489"/>
                </a:lnTo>
                <a:lnTo>
                  <a:pt x="279342" y="448687"/>
                </a:lnTo>
                <a:lnTo>
                  <a:pt x="302840" y="448025"/>
                </a:lnTo>
                <a:lnTo>
                  <a:pt x="325394" y="446060"/>
                </a:lnTo>
                <a:lnTo>
                  <a:pt x="346978" y="442822"/>
                </a:lnTo>
                <a:lnTo>
                  <a:pt x="367563" y="438342"/>
                </a:lnTo>
                <a:lnTo>
                  <a:pt x="387119" y="432653"/>
                </a:lnTo>
                <a:lnTo>
                  <a:pt x="405620" y="425783"/>
                </a:lnTo>
                <a:lnTo>
                  <a:pt x="423036" y="417765"/>
                </a:lnTo>
                <a:lnTo>
                  <a:pt x="439339" y="408630"/>
                </a:lnTo>
                <a:lnTo>
                  <a:pt x="454501" y="398409"/>
                </a:lnTo>
                <a:lnTo>
                  <a:pt x="468493" y="387131"/>
                </a:lnTo>
                <a:lnTo>
                  <a:pt x="481288" y="374830"/>
                </a:lnTo>
                <a:lnTo>
                  <a:pt x="492856" y="361535"/>
                </a:lnTo>
                <a:lnTo>
                  <a:pt x="503169" y="347277"/>
                </a:lnTo>
                <a:lnTo>
                  <a:pt x="512200" y="332088"/>
                </a:lnTo>
                <a:lnTo>
                  <a:pt x="519919" y="315998"/>
                </a:lnTo>
                <a:lnTo>
                  <a:pt x="526298" y="299039"/>
                </a:lnTo>
                <a:lnTo>
                  <a:pt x="531309" y="281242"/>
                </a:lnTo>
                <a:lnTo>
                  <a:pt x="534923" y="262637"/>
                </a:lnTo>
                <a:lnTo>
                  <a:pt x="537112" y="243255"/>
                </a:lnTo>
                <a:lnTo>
                  <a:pt x="537849" y="223128"/>
                </a:lnTo>
                <a:lnTo>
                  <a:pt x="537471" y="209552"/>
                </a:lnTo>
                <a:lnTo>
                  <a:pt x="536241" y="195482"/>
                </a:lnTo>
                <a:lnTo>
                  <a:pt x="534230" y="182122"/>
                </a:lnTo>
                <a:lnTo>
                  <a:pt x="531509" y="169410"/>
                </a:lnTo>
                <a:lnTo>
                  <a:pt x="528151" y="157284"/>
                </a:lnTo>
                <a:lnTo>
                  <a:pt x="524228" y="145682"/>
                </a:lnTo>
                <a:lnTo>
                  <a:pt x="519812" y="134544"/>
                </a:lnTo>
                <a:lnTo>
                  <a:pt x="514977" y="123808"/>
                </a:lnTo>
                <a:lnTo>
                  <a:pt x="509794" y="113413"/>
                </a:lnTo>
                <a:lnTo>
                  <a:pt x="514219" y="106979"/>
                </a:lnTo>
                <a:lnTo>
                  <a:pt x="524238" y="93299"/>
                </a:lnTo>
                <a:lnTo>
                  <a:pt x="533698" y="82107"/>
                </a:lnTo>
                <a:lnTo>
                  <a:pt x="542962" y="73404"/>
                </a:lnTo>
                <a:lnTo>
                  <a:pt x="552391" y="67188"/>
                </a:lnTo>
                <a:lnTo>
                  <a:pt x="562348" y="63459"/>
                </a:lnTo>
                <a:lnTo>
                  <a:pt x="573195" y="62217"/>
                </a:lnTo>
                <a:lnTo>
                  <a:pt x="580507" y="62217"/>
                </a:lnTo>
                <a:lnTo>
                  <a:pt x="584163" y="68293"/>
                </a:lnTo>
                <a:lnTo>
                  <a:pt x="584093" y="81830"/>
                </a:lnTo>
                <a:lnTo>
                  <a:pt x="582235" y="94385"/>
                </a:lnTo>
                <a:lnTo>
                  <a:pt x="579494" y="106932"/>
                </a:lnTo>
                <a:lnTo>
                  <a:pt x="578087" y="119499"/>
                </a:lnTo>
                <a:lnTo>
                  <a:pt x="580273" y="134736"/>
                </a:lnTo>
                <a:lnTo>
                  <a:pt x="586331" y="147117"/>
                </a:lnTo>
                <a:lnTo>
                  <a:pt x="595805" y="156533"/>
                </a:lnTo>
                <a:lnTo>
                  <a:pt x="608235" y="162521"/>
                </a:lnTo>
                <a:lnTo>
                  <a:pt x="623165" y="164620"/>
                </a:lnTo>
                <a:lnTo>
                  <a:pt x="636361" y="163551"/>
                </a:lnTo>
                <a:lnTo>
                  <a:pt x="649465" y="159718"/>
                </a:lnTo>
                <a:lnTo>
                  <a:pt x="660391" y="153099"/>
                </a:lnTo>
                <a:lnTo>
                  <a:pt x="669048" y="143693"/>
                </a:lnTo>
                <a:lnTo>
                  <a:pt x="675344" y="131499"/>
                </a:lnTo>
                <a:lnTo>
                  <a:pt x="679188" y="116517"/>
                </a:lnTo>
                <a:lnTo>
                  <a:pt x="680490" y="98746"/>
                </a:lnTo>
                <a:close/>
              </a:path>
            </a:pathLst>
          </a:custGeom>
          <a:solidFill>
            <a:srgbClr val="fdfdfd"/>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7" name="object 38"/>
          <p:cNvSpPr/>
          <p:nvPr/>
        </p:nvSpPr>
        <p:spPr>
          <a:xfrm>
            <a:off x="0" y="5156280"/>
            <a:ext cx="5583240" cy="6159600"/>
          </a:xfrm>
          <a:custGeom>
            <a:avLst/>
            <a:gdLst/>
            <a:ahLst/>
            <a:rect l="l" t="t" r="r" b="b"/>
            <a:pathLst>
              <a:path w="5582804" h="6159896">
                <a:moveTo>
                  <a:pt x="0" y="6159896"/>
                </a:moveTo>
                <a:lnTo>
                  <a:pt x="5582804" y="6159896"/>
                </a:lnTo>
                <a:lnTo>
                  <a:pt x="5582804" y="0"/>
                </a:lnTo>
                <a:lnTo>
                  <a:pt x="0" y="0"/>
                </a:lnTo>
                <a:lnTo>
                  <a:pt x="0" y="6159896"/>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8" name="object 47"/>
          <p:cNvSpPr/>
          <p:nvPr/>
        </p:nvSpPr>
        <p:spPr>
          <a:xfrm>
            <a:off x="13779360" y="8586720"/>
            <a:ext cx="6324840" cy="773280"/>
          </a:xfrm>
          <a:custGeom>
            <a:avLst/>
            <a:gdLst/>
            <a:ahLst/>
            <a:rect l="l" t="t" r="r" b="b"/>
            <a:pathLst>
              <a:path w="6324631" h="772092">
                <a:moveTo>
                  <a:pt x="0" y="772092"/>
                </a:moveTo>
                <a:lnTo>
                  <a:pt x="6324631" y="772092"/>
                </a:lnTo>
                <a:lnTo>
                  <a:pt x="6324631" y="0"/>
                </a:lnTo>
                <a:lnTo>
                  <a:pt x="0" y="0"/>
                </a:lnTo>
                <a:lnTo>
                  <a:pt x="0" y="772092"/>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9" name="object 48"/>
          <p:cNvSpPr/>
          <p:nvPr/>
        </p:nvSpPr>
        <p:spPr>
          <a:xfrm>
            <a:off x="13779360" y="2198520"/>
            <a:ext cx="6324840" cy="773280"/>
          </a:xfrm>
          <a:custGeom>
            <a:avLst/>
            <a:gdLst/>
            <a:ahLst/>
            <a:rect l="l" t="t" r="r" b="b"/>
            <a:pathLst>
              <a:path w="6324631" h="772092">
                <a:moveTo>
                  <a:pt x="0" y="772092"/>
                </a:moveTo>
                <a:lnTo>
                  <a:pt x="6324631" y="772092"/>
                </a:lnTo>
                <a:lnTo>
                  <a:pt x="6324631" y="0"/>
                </a:lnTo>
                <a:lnTo>
                  <a:pt x="0" y="0"/>
                </a:lnTo>
                <a:lnTo>
                  <a:pt x="0" y="772092"/>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50" name="object 32"/>
          <p:cNvSpPr/>
          <p:nvPr/>
        </p:nvSpPr>
        <p:spPr>
          <a:xfrm>
            <a:off x="6143760" y="660240"/>
            <a:ext cx="9858240" cy="497160"/>
          </a:xfrm>
          <a:prstGeom prst="rect">
            <a:avLst/>
          </a:prstGeom>
          <a:noFill/>
          <a:ln w="0">
            <a:noFill/>
          </a:ln>
        </p:spPr>
        <p:style>
          <a:lnRef idx="0"/>
          <a:fillRef idx="0"/>
          <a:effectRef idx="0"/>
          <a:fontRef idx="minor"/>
        </p:style>
        <p:txBody>
          <a:bodyPr lIns="0" rIns="0" tIns="0" bIns="0" anchor="t">
            <a:no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3700" spc="-1" strike="noStrike">
                <a:solidFill>
                  <a:srgbClr val="fdfdfd"/>
                </a:solidFill>
                <a:latin typeface="Poppins Light"/>
              </a:rPr>
              <a:t>GSA MEMBERS  FOR …</a:t>
            </a:r>
            <a:endParaRPr b="0" lang="en-US" sz="3700" spc="-1" strike="noStrike">
              <a:solidFill>
                <a:srgbClr val="000000"/>
              </a:solidFill>
              <a:latin typeface="Calibri"/>
            </a:endParaRPr>
          </a:p>
        </p:txBody>
      </p:sp>
      <p:sp>
        <p:nvSpPr>
          <p:cNvPr id="51" name="object 31"/>
          <p:cNvSpPr/>
          <p:nvPr/>
        </p:nvSpPr>
        <p:spPr>
          <a:xfrm>
            <a:off x="6143760" y="1254240"/>
            <a:ext cx="7495920" cy="560160"/>
          </a:xfrm>
          <a:prstGeom prst="rect">
            <a:avLst/>
          </a:prstGeom>
          <a:noFill/>
          <a:ln w="0">
            <a:noFill/>
          </a:ln>
        </p:spPr>
        <p:style>
          <a:lnRef idx="0"/>
          <a:fillRef idx="0"/>
          <a:effectRef idx="0"/>
          <a:fontRef idx="minor"/>
        </p:style>
        <p:txBody>
          <a:bodyPr lIns="0" rIns="0" tIns="0" bIns="0" anchor="t">
            <a:no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6000" spc="-1" strike="noStrike" baseline="1000">
                <a:solidFill>
                  <a:srgbClr val="363435"/>
                </a:solidFill>
                <a:latin typeface="Poppins SemiBold"/>
              </a:rPr>
              <a:t>IMPEL SECURITY</a:t>
            </a:r>
            <a:r>
              <a:rPr b="0" lang="fr-FR" sz="3300" spc="-1" strike="noStrike">
                <a:solidFill>
                  <a:srgbClr val="363435"/>
                </a:solidFill>
                <a:latin typeface="Poppins Light"/>
              </a:rPr>
              <a:t>. Poland</a:t>
            </a:r>
            <a:endParaRPr b="0" lang="en-US" sz="3300" spc="-1" strike="noStrike">
              <a:solidFill>
                <a:srgbClr val="000000"/>
              </a:solidFill>
              <a:latin typeface="Calibri"/>
            </a:endParaRPr>
          </a:p>
        </p:txBody>
      </p:sp>
      <p:sp>
        <p:nvSpPr>
          <p:cNvPr id="52" name="object 28"/>
          <p:cNvSpPr/>
          <p:nvPr/>
        </p:nvSpPr>
        <p:spPr>
          <a:xfrm>
            <a:off x="6164280" y="2441520"/>
            <a:ext cx="7273800" cy="8531280"/>
          </a:xfrm>
          <a:prstGeom prst="rect">
            <a:avLst/>
          </a:prstGeom>
          <a:noFill/>
          <a:ln w="0">
            <a:noFill/>
          </a:ln>
        </p:spPr>
        <p:style>
          <a:lnRef idx="0"/>
          <a:fillRef idx="0"/>
          <a:effectRef idx="0"/>
          <a:fontRef idx="minor"/>
        </p:style>
        <p:txBody>
          <a:bodyPr lIns="0" rIns="0" tIns="0" bIns="0" anchor="t">
            <a:noAutofit/>
          </a:bodyPr>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Grzegorz Dzik and Józef Biegaj founded Impel  in 1990, following the establishment of a free market economy in Poland. Since then, the organization has grown from a staff of twenty into a dynamic holding company with over seventy thousand employees and associates. Today, Impel Group is the largest outsourcing provider in Poland, and, since it is a public listed entity, its trustworthiness and transparency are assured. We deliver a wide range of services, mainly for business customers, including Facility Management, Digital Services, BPO and Industrial Services.</a:t>
            </a: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Impel S.A. (joint-stock company), with its subsidiaries in the security business unit, is one of the leading security organizations in Poland. Operating at the forefront of business support, we offer highly customised solutions by taking into consideration the individual needs and existing capabilities of each of our customers.  Our comprehensive, integrated suite of security services provides companies, institutions and individuals with greatly enhanced levels of safety and reduced losses.</a:t>
            </a: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WiTo ensure that we continue to exceed client expectations, we constantly adapt and innovate our services in response to the ever-changing needs of our diverse client base. For example, thanks to the considerable IT expertise of the 150 developers and consultants within our sister company SI-Consulting, we have been able to further enhance our security services through the use of software-based solutions carefully tailored to meet the specific requirements of our customers. To learn more about us and our range of services, please visit </a:t>
            </a:r>
            <a:r>
              <a:rPr b="1" lang="fr-FR" sz="1600" spc="-1" strike="noStrike">
                <a:solidFill>
                  <a:srgbClr val="c2a451"/>
                </a:solidFill>
                <a:latin typeface="Poppins Regular"/>
              </a:rPr>
              <a:t>www.Impel.pl</a:t>
            </a:r>
            <a:endParaRPr b="0" lang="en-US" sz="1600" spc="-1" strike="noStrike">
              <a:solidFill>
                <a:srgbClr val="000000"/>
              </a:solidFill>
              <a:latin typeface="Calibri"/>
            </a:endParaRPr>
          </a:p>
        </p:txBody>
      </p:sp>
      <p:sp>
        <p:nvSpPr>
          <p:cNvPr id="53" name="object 25"/>
          <p:cNvSpPr/>
          <p:nvPr/>
        </p:nvSpPr>
        <p:spPr>
          <a:xfrm>
            <a:off x="13944600" y="3170160"/>
            <a:ext cx="5468760" cy="5118120"/>
          </a:xfrm>
          <a:prstGeom prst="rect">
            <a:avLst/>
          </a:prstGeom>
          <a:noFill/>
          <a:ln w="0">
            <a:noFill/>
          </a:ln>
        </p:spPr>
        <p:style>
          <a:lnRef idx="0"/>
          <a:fillRef idx="0"/>
          <a:effectRef idx="0"/>
          <a:fontRef idx="minor"/>
        </p:style>
        <p:txBody>
          <a:bodyPr lIns="0" rIns="0" tIns="0" bIns="0" anchor="t">
            <a:noAutofit/>
          </a:bodyPr>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Physical Security</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MonitoringSecurity Patrol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Cash in Transit</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Electronic Security &amp; CCTV</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Technical Inspection &amp; Consulting</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Loss Prevention</a:t>
            </a:r>
            <a:endParaRPr b="0" lang="en-US" sz="1900" spc="-1" strike="noStrike">
              <a:solidFill>
                <a:srgbClr val="000000"/>
              </a:solidFill>
              <a:latin typeface="Calibri"/>
            </a:endParaRPr>
          </a:p>
        </p:txBody>
      </p:sp>
      <p:sp>
        <p:nvSpPr>
          <p:cNvPr id="54" name="object 23"/>
          <p:cNvSpPr/>
          <p:nvPr/>
        </p:nvSpPr>
        <p:spPr>
          <a:xfrm>
            <a:off x="306360" y="5684760"/>
            <a:ext cx="5245200" cy="5288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KEY </a:t>
            </a:r>
            <a:r>
              <a:rPr b="0" lang="fr-FR" sz="2500" spc="-1" strike="noStrike">
                <a:solidFill>
                  <a:srgbClr val="ffffff"/>
                </a:solidFill>
                <a:latin typeface="Poppins Medium"/>
              </a:rPr>
              <a:t>CONTACT INFORMATION</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Jakub Dzikx</a:t>
            </a:r>
            <a:br>
              <a:rPr sz="2300"/>
            </a:br>
            <a:r>
              <a:rPr b="0" lang="fr-FR" sz="1800" spc="-1" strike="noStrike">
                <a:solidFill>
                  <a:srgbClr val="ffffff"/>
                </a:solidFill>
                <a:latin typeface="Poppins Regular"/>
              </a:rPr>
              <a:t>VICE PRESIDENT OF THE MANAGEMENT BOARD</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48 508 028 000</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48 800 190 911</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u="sng">
                <a:solidFill>
                  <a:srgbClr val="c2a451"/>
                </a:solidFill>
                <a:uFillTx/>
                <a:latin typeface="Poppins Light"/>
                <a:hlinkClick r:id="rId2"/>
              </a:rPr>
              <a:t>jakub.dzik@globalsecuralliance.com</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ALTERNATIVE </a:t>
            </a:r>
            <a:r>
              <a:rPr b="0" lang="fr-FR" sz="2500" spc="-1" strike="noStrike">
                <a:solidFill>
                  <a:srgbClr val="ffffff"/>
                </a:solidFill>
                <a:latin typeface="Poppins Medium"/>
              </a:rPr>
              <a:t>CONTACT DETAILS</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Kamil Traczyk</a:t>
            </a:r>
            <a:br>
              <a:rPr sz="2300"/>
            </a:br>
            <a:r>
              <a:rPr b="0" lang="fr-FR" sz="1800" spc="-1" strike="noStrike">
                <a:solidFill>
                  <a:srgbClr val="ffffff"/>
                </a:solidFill>
                <a:latin typeface="Poppins Regular"/>
              </a:rPr>
              <a:t>VICE PRESIDENT OF THE MANAGEMENT BOARD </a:t>
            </a:r>
            <a:br>
              <a:rPr sz="1800"/>
            </a:br>
            <a:r>
              <a:rPr b="0" lang="fr-FR" sz="2100" spc="-1" strike="noStrike">
                <a:solidFill>
                  <a:srgbClr val="c2a451"/>
                </a:solidFill>
                <a:latin typeface="Poppins Medium"/>
              </a:rPr>
              <a:t>+48 510 015 559</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48 800 190 911</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a:solidFill>
                  <a:srgbClr val="c2a451"/>
                </a:solidFill>
                <a:latin typeface="Poppins Light"/>
              </a:rPr>
              <a:t>kamil.traczyk@globalsecuralliance.com</a:t>
            </a:r>
            <a:endParaRPr b="0" lang="en-US" sz="1800" spc="-1" strike="noStrike">
              <a:solidFill>
                <a:srgbClr val="000000"/>
              </a:solidFill>
              <a:latin typeface="Calibri"/>
            </a:endParaRPr>
          </a:p>
        </p:txBody>
      </p:sp>
      <p:sp>
        <p:nvSpPr>
          <p:cNvPr id="55" name="object 23"/>
          <p:cNvSpPr/>
          <p:nvPr/>
        </p:nvSpPr>
        <p:spPr>
          <a:xfrm>
            <a:off x="13944600" y="2317680"/>
            <a:ext cx="4976640" cy="533520"/>
          </a:xfrm>
          <a:prstGeom prst="rect">
            <a:avLst/>
          </a:prstGeom>
          <a:noFill/>
          <a:ln w="0">
            <a:noFill/>
          </a:ln>
        </p:spPr>
        <p:style>
          <a:lnRef idx="0"/>
          <a:fillRef idx="0"/>
          <a:effectRef idx="0"/>
          <a:fontRef idx="minor"/>
        </p:style>
        <p:txBody>
          <a:bodyPr lIns="0" rIns="0" tIns="0" bIns="0" anchor="ctr">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800" spc="-1" strike="noStrike">
                <a:solidFill>
                  <a:srgbClr val="c2a451"/>
                </a:solidFill>
                <a:latin typeface="Poppins Medium"/>
              </a:rPr>
              <a:t>KEY </a:t>
            </a:r>
            <a:r>
              <a:rPr b="0" lang="fr-FR" sz="2800" spc="-1" strike="noStrike">
                <a:solidFill>
                  <a:srgbClr val="ffffff"/>
                </a:solidFill>
                <a:latin typeface="Poppins Medium"/>
              </a:rPr>
              <a:t>SERVICES</a:t>
            </a:r>
            <a:endParaRPr b="0" lang="en-US" sz="2800" spc="-1" strike="noStrike">
              <a:solidFill>
                <a:srgbClr val="000000"/>
              </a:solidFill>
              <a:latin typeface="Calibri"/>
            </a:endParaRPr>
          </a:p>
        </p:txBody>
      </p:sp>
      <p:sp>
        <p:nvSpPr>
          <p:cNvPr id="56" name="object 23"/>
          <p:cNvSpPr/>
          <p:nvPr/>
        </p:nvSpPr>
        <p:spPr>
          <a:xfrm>
            <a:off x="13944600" y="8744040"/>
            <a:ext cx="5715000" cy="457200"/>
          </a:xfrm>
          <a:prstGeom prst="rect">
            <a:avLst/>
          </a:prstGeom>
          <a:noFill/>
          <a:ln w="0">
            <a:noFill/>
          </a:ln>
        </p:spPr>
        <p:style>
          <a:lnRef idx="0"/>
          <a:fillRef idx="0"/>
          <a:effectRef idx="0"/>
          <a:fontRef idx="minor"/>
        </p:style>
        <p:txBody>
          <a:bodyPr lIns="0" rIns="0" tIns="0" bIns="0" anchor="ctr">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800" spc="-1" strike="noStrike">
                <a:solidFill>
                  <a:srgbClr val="c2a451"/>
                </a:solidFill>
                <a:latin typeface="Poppins Medium"/>
              </a:rPr>
              <a:t>OUR </a:t>
            </a:r>
            <a:r>
              <a:rPr b="0" lang="fr-FR" sz="2800" spc="-1" strike="noStrike">
                <a:solidFill>
                  <a:srgbClr val="ffffff"/>
                </a:solidFill>
                <a:latin typeface="Poppins Medium"/>
              </a:rPr>
              <a:t>BEST REFERENCES</a:t>
            </a:r>
            <a:endParaRPr b="0" lang="en-US" sz="2800" spc="-1" strike="noStrike">
              <a:solidFill>
                <a:srgbClr val="000000"/>
              </a:solidFill>
              <a:latin typeface="Calibri"/>
            </a:endParaRPr>
          </a:p>
        </p:txBody>
      </p:sp>
      <p:pic>
        <p:nvPicPr>
          <p:cNvPr id="57" name="Image 32" descr=""/>
          <p:cNvPicPr/>
          <p:nvPr/>
        </p:nvPicPr>
        <p:blipFill>
          <a:blip r:embed="rId3"/>
          <a:stretch/>
        </p:blipFill>
        <p:spPr>
          <a:xfrm>
            <a:off x="4772160" y="4700520"/>
            <a:ext cx="811080" cy="453960"/>
          </a:xfrm>
          <a:prstGeom prst="rect">
            <a:avLst/>
          </a:prstGeom>
          <a:ln w="0">
            <a:noFill/>
          </a:ln>
        </p:spPr>
      </p:pic>
      <p:pic>
        <p:nvPicPr>
          <p:cNvPr id="58" name="Image 3" descr=""/>
          <p:cNvPicPr/>
          <p:nvPr/>
        </p:nvPicPr>
        <p:blipFill>
          <a:blip r:embed="rId4"/>
          <a:stretch/>
        </p:blipFill>
        <p:spPr>
          <a:xfrm>
            <a:off x="14095440" y="9686880"/>
            <a:ext cx="1817640" cy="507960"/>
          </a:xfrm>
          <a:prstGeom prst="rect">
            <a:avLst/>
          </a:prstGeom>
          <a:ln w="0">
            <a:noFill/>
          </a:ln>
        </p:spPr>
      </p:pic>
      <p:pic>
        <p:nvPicPr>
          <p:cNvPr id="59" name="Image 15" descr=""/>
          <p:cNvPicPr/>
          <p:nvPr/>
        </p:nvPicPr>
        <p:blipFill>
          <a:blip r:embed="rId5"/>
          <a:stretch/>
        </p:blipFill>
        <p:spPr>
          <a:xfrm>
            <a:off x="16083000" y="9740880"/>
            <a:ext cx="2482920" cy="328680"/>
          </a:xfrm>
          <a:prstGeom prst="rect">
            <a:avLst/>
          </a:prstGeom>
          <a:ln w="0">
            <a:noFill/>
          </a:ln>
        </p:spPr>
      </p:pic>
      <p:pic>
        <p:nvPicPr>
          <p:cNvPr id="60" name="Image 16" descr=""/>
          <p:cNvPicPr/>
          <p:nvPr/>
        </p:nvPicPr>
        <p:blipFill>
          <a:blip r:embed="rId6"/>
          <a:stretch/>
        </p:blipFill>
        <p:spPr>
          <a:xfrm>
            <a:off x="14135040" y="10522080"/>
            <a:ext cx="2035080" cy="376200"/>
          </a:xfrm>
          <a:prstGeom prst="rect">
            <a:avLst/>
          </a:prstGeom>
          <a:ln w="0">
            <a:noFill/>
          </a:ln>
        </p:spPr>
      </p:pic>
      <p:pic>
        <p:nvPicPr>
          <p:cNvPr id="61" name="Image 20" descr=""/>
          <p:cNvPicPr/>
          <p:nvPr/>
        </p:nvPicPr>
        <p:blipFill>
          <a:blip r:embed="rId7"/>
          <a:stretch/>
        </p:blipFill>
        <p:spPr>
          <a:xfrm>
            <a:off x="18748440" y="9677520"/>
            <a:ext cx="911160" cy="474480"/>
          </a:xfrm>
          <a:prstGeom prst="rect">
            <a:avLst/>
          </a:prstGeom>
          <a:ln w="0">
            <a:noFill/>
          </a:ln>
        </p:spPr>
      </p:pic>
      <p:pic>
        <p:nvPicPr>
          <p:cNvPr id="62" name="Image 21" descr=""/>
          <p:cNvPicPr/>
          <p:nvPr/>
        </p:nvPicPr>
        <p:blipFill>
          <a:blip r:embed="rId8"/>
          <a:stretch/>
        </p:blipFill>
        <p:spPr>
          <a:xfrm>
            <a:off x="16351200" y="10198080"/>
            <a:ext cx="1392120" cy="835200"/>
          </a:xfrm>
          <a:prstGeom prst="rect">
            <a:avLst/>
          </a:prstGeom>
          <a:ln w="0">
            <a:noFill/>
          </a:ln>
        </p:spPr>
      </p:pic>
      <p:pic>
        <p:nvPicPr>
          <p:cNvPr id="63" name="Image 22" descr=""/>
          <p:cNvPicPr/>
          <p:nvPr/>
        </p:nvPicPr>
        <p:blipFill>
          <a:blip r:embed="rId9"/>
          <a:stretch/>
        </p:blipFill>
        <p:spPr>
          <a:xfrm>
            <a:off x="18078480" y="10544040"/>
            <a:ext cx="1793880" cy="6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9T15:07:33Z</dcterms:created>
  <dc:creator>Utilisateur de Microsoft Office</dc:creator>
  <dc:description/>
  <dc:language>en-US</dc:language>
  <cp:lastModifiedBy>Utilisateur de Microsoft Office</cp:lastModifiedBy>
  <dcterms:modified xsi:type="dcterms:W3CDTF">2018-02-28T15:49:38Z</dcterms:modified>
  <cp:revision>11</cp:revision>
  <dc:subject/>
  <dc:title>Présentation PowerPoint</dc:title>
</cp:coreProperties>
</file>